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8B0-CDED-4F07-A001-5CF1295F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C64-94B6-4EED-B39B-DCCADC5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14A-D2D0-4A77-8043-EBB6FDF4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F03-8D5E-48F8-8853-8EFEF184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8476-BACF-4DEA-9036-21F60529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681B-DFB9-40D3-A1C7-985D95BA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F64-2573-4535-BE7A-2D02076C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71FE-ECAC-4507-B656-2015D72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CC07-6CB0-4D12-B657-74E2292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396E-0F8F-41A6-AE01-280D2AC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8842-D47C-4519-92AA-8C9ABF8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F53-816C-4A16-B894-BFC45AEC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FE27-F434-4E78-8036-0280821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BAFA-A3AC-4A11-AF35-9B11FE0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97B4-C818-4BB3-B629-B9747CA6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7E9C-919B-4174-81D5-62F9A8D3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77E8-DE52-4DCC-AE1B-E132D97D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D4D-A87F-418D-A82B-A99AB733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81E-4631-4638-B6FF-A93BF6C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7DE-9E23-4109-B246-1D477B8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829-26F8-4E1E-8050-247E1EF7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741-44A9-4CA8-9AA9-154417E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5CD-703B-4314-8B1B-B460C74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E75-09A2-4130-A66E-221CBBE4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05EE-0027-4681-80AB-5ADD6F9E832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76A-A172-4D12-A451-810B2D33FBE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63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ражданская оборона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5" descr="m_ch_s"/>
          <p:cNvPicPr/>
          <p:nvPr/>
        </p:nvPicPr>
        <p:blipFill>
          <a:blip r:embed="rId1"/>
          <a:stretch/>
        </p:blipFill>
        <p:spPr>
          <a:xfrm>
            <a:off x="7236000" y="208080"/>
            <a:ext cx="11998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birulevo-zapadnoe.mos.ru/upload/medialibrary/5d0/grazhdanskaya-oborona.iz-istorii.jpg"/>
          <p:cNvPicPr/>
          <p:nvPr/>
        </p:nvPicPr>
        <p:blipFill>
          <a:blip r:embed="rId2"/>
          <a:stretch/>
        </p:blipFill>
        <p:spPr>
          <a:xfrm>
            <a:off x="826920" y="2205000"/>
            <a:ext cx="7481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значает звучание сирен, предупреждающих о ЧС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«Воздушная тревога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«Внимание всем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чало эваку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Куда необходимо следовать при объявлении эвакуации?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ЖЭК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школу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а сборно-эвакуационный пунк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Поражающими факторами ядерного взрыва являю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избыточное давление в эпицентре ядерного взрыва; облако, зараженное отравляющими веществами и движущееся по направлению ветра; изменение состава атмосферного воздух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дарная волна, световое излучение, проникающая радиация, радиоактивное заражение и электромагнитный импульс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резкое понижение температуры окружающей среды, понижение концентрации кислорода в воздухе, самовозгорание веществ и материалов в зоне взрыва, резкое увеличение силы тока в электроприборах и электрооборудова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15560"/>
            <a:ext cx="8893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 действиям населения при оповещении об аварии на радиационно-опасном объекте относя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ите радиоприемник, телевизор, прослушайте сообщ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ясь на улице, немедленно защитите органы дыхания и поспешите в укрыт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Закройте окна и двери, загерметизируйте помеще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Проведите йодную профилактику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Защитите продукты питания; сделайте запас вод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) Ждите информацию органов ГОЧ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) Все вышеперечисленны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. При движении по зараженной радиоактивными веществами местности необходимо: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ходиться в средствах индивидуальной защиты органов дыхания и кожи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без надобности не садиться и не прикасаться к местным предметам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избегать движения по высокой траве и кустарнику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е принимать пищу, не пить, не курить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не поднимать пыль и не ставить вещи на землю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Всё вышеперечисленное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35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Гражданская оборона – это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истема мероприятий по прогнозированию, предотвращению и ликвидации чрезвычайных ситуаций в военное врем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истема обеспечения постоянной готовности органов государственного управления для быстрых и эффективных действий по организации первоочередного жизнеобеспечения населения при ведении военных действий на территории Российской Федераци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Частичная санитарная обработка включает в себя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ять верхнюю одежду, встать спиной к ветру и тщательно ее выби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мыть водой и обтереть ветошью обу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нять противогаз, вымыть лицо, прополоскать рот и горл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ыть водой открытые участки тела и лицевую часть противогаз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снять всю одежду и отправить в стирк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принять ванн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А; Б; В; Г</a:t>
            </a:r>
            <a:endParaRPr b="0" lang="en-US" sz="13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Picture 2" descr="https://avatars.mds.yandex.net/get-zen_doc/53963/pub_5ab32893bcf1bcb6689dc57e_5ab32b6f9e29a29d46437756/scale_1200"/>
          <p:cNvPicPr/>
          <p:nvPr/>
        </p:nvPicPr>
        <p:blipFill>
          <a:blip r:embed="rId1"/>
          <a:stretch/>
        </p:blipFill>
        <p:spPr>
          <a:xfrm>
            <a:off x="1476360" y="1557360"/>
            <a:ext cx="6438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ы обнаружили у пострадавшего из ноги пульсирующими струйками выделяется кровь алого цвета. Какое кровотечение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еноз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капилляр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артериальное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вы наложите жгут при кровотече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иж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Выш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саму ран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какое время можно накладывать жгут при остановке кровотечения летом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 1 час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на 1,5-2 часа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3 часа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Как вы окажете помощь пострадавшему при переломе рук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ложите тугую повязку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оможете пострадавшему добраться до больницы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к поврежденной конечности закрепите шину (палку, дощечку), позвоните 03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Сколько вдуваний в минуту вы будете делать пострадавшему при искусственном дыха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-10 вдуваний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2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3-4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Сколько надавливаний вы будете делать пострадавшему при непрямом массаже сердц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3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60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Какие средства защиты следует применять от поражения отравляющими веществам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защитный костюм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ротивогаз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арлевую повя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ская оборона -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оенных конфликтах или вследствие этих конфликтов, а также при чрезвычайных ситуациях природного и техногенного характера (в ред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дерального закона от 29.06.2015 N 171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 правильно оказать помощь при кровотечении из носа: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        сказать пострадавшему, чтобы он стоял,  запрокинув голову назад, и не шевелился;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        усадить пострадавшего, наклонив его туловище перед, положить на спинку носа холод, плотно прижать крылья носа к перегородке на 5—10 минут, смочить  кусочки ваты раствором перекиси водорода и вести их в носовые ходы; 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        усадить пострадавшего, наклонив его туловище вперед, смочить кусочки ваты раствором перекиси водорода и ввести их в носовые ходы, измерить температуру и дать обезболивающе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85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При химическом ожоге кислотой необходимо прежде всего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        доставить пострадавшего в медицинское учреждени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        дать обезболивающе средство и промыть место ожога слабым раствором питьевой соды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        удалить с человека одежду, пропитанную кислотой, и промыть кожу проточной водой;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9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00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10. Укажите правильную последовательность при оказании ПМП при ожогах: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) дать таблет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) при горении одежды, накрыть пострадавшего плотной тканью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) положить холод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) дать выпить теплый чай, слабый кофе или слегка подсоленную вод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) наложить стерильную повяз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) транспортировать в лечебное заведение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Б; А; Д; Г; В; Е.</a:t>
            </a:r>
            <a:endParaRPr b="0" lang="en-US" sz="8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64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з приведенных задач выберите те, которые являются задачами в области ГО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эвакуация населения, материальных и культурных ценносте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эвакуация раненных с места военных действи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орьба с пожарами, возникающими при ведении военных действ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ззараживание населения, техники, зданий и территор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строительство фортификационных сооружений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восстановление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проведение мероприятий по организации медицинского обслуживания населени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проведение мероприятий по светомаскировк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А; В; Г; Е; З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49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едение ГО на территории РФ или отдельных ее местностях начинае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 началом объявления о мобилизации взрослого населени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 момента объявления или ведения Президентом Российской Федерации чрезвычайного положения на территории Российской Федерации или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 момента объявления состояния войны, фактического начала военных действий или ведения Президентом Российской Федерации военного положения на территории Российской Федерации и в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Руководителем гражданской обороны образовательного учреждения является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пециально уполномоченный представитель органов местного самоуправл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руководитель общеобразовательного учрежд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один из заместителей руководителя общеобразовательного учреждения, прошедший специальную подготовку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22:10Z</dcterms:created>
  <dc:creator>РиЮ</dc:creator>
  <dc:description/>
  <dc:language>en-US</dc:language>
  <cp:lastModifiedBy>Андрей</cp:lastModifiedBy>
  <dcterms:modified xsi:type="dcterms:W3CDTF">2020-03-15T14:13:14Z</dcterms:modified>
  <cp:revision>36</cp:revision>
  <dc:subject/>
  <dc:title>Слайд 1</dc:title>
</cp:coreProperties>
</file>